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0BD9-1A15-41FF-8720-7A526E068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DC1B-35CE-44EB-98F8-3A61A155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5E62-0DD6-4D87-8B1D-1240E5F26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0635-8909-4484-B42E-B162287AB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8EBAF-27AE-4161-90DD-2BC2359CD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0CD89-68A8-4C20-9D2B-29E95EA8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F8194-4C12-4F71-9FF9-E0D40EA5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BB81-E4C1-477C-B4EF-F820EA01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6A7E-461A-4E61-A4CF-389C9137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3A2E-4BD8-4A5E-A58E-57E59554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44AA-17EB-44A3-88D3-477719A6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2CDF-350A-4E2D-AE13-00E404FB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4F19-6DF8-4AA3-A98D-CB512B67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534A-864E-4A06-B213-9A38B659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01D3-2174-4688-8EB8-8B20AC0E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54366-D8B4-4B16-8410-2FF716326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E81B-A246-4102-A86B-4C053E5CB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A5F6-6AC0-4607-80EA-95A4C996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172B-3220-45E6-ACE6-716A4F4E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722F-D56E-46B1-AEBD-4AA875A1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C4C0-88BB-44D4-A882-0E9CECDC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BA98-36FA-4CEA-9DA2-1CD02254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638D-04FE-4460-AE41-F2C0F7EB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C10D-9654-4D10-876F-E44A5933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5B32-7A31-4A32-A8CB-5ED3F8D1BD0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41F1-8D06-4625-BBB5-C74860E9DF8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офессиональный конкурс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«Лучший педагог ДОУ»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как средство развития педагогического мастерств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47760" y="4114800"/>
            <a:ext cx="5562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веева М.Г., педагог-психолог ГМЦ г.Каз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манова Н.Г., методист по дошкольному образованию ИМО ГМЦ Советского района, старший воспитатель МАОУ «Прогимназия № 29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33520" y="53316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тер-класс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— это интерактивная форма обучения и обмена опытом, объединяющая формат тренинга и конференци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– 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тер-класс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(от английского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masterclass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master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— лучший в какой-либо области +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class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— занятие, урок) действительно является семинаром, который проводит эксперт в определённой дисциплине, для тех, кто хочет улучшить свои практические достижения в этом предмете. Очевидно, таким образом, что мастер-классы не показывают, а проводят. Придя в русский язык, слово «мастер-класс» и вовсе получило самое широкое значение; так теперь называют практически любой семинар, проводимый опытным человеком, неважно, в какой области знани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– 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тер-класс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— современная форма проведения обучающего тренинга-семинара для отработки практических навыков по различным методикам и технологиям с целью повышения профессионального уровня и обмена передовым опытом участников, расширения кругозора и приобщения к новейшим областям зна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539640" y="620640"/>
            <a:ext cx="8425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Рекомендации по подготовке мастер-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. Выберите ведущую педагогическую идею, которую вы хотите проиллюстрировать на мастер-классе и свяжите ее с те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. Определите цели и задачи в связи с темой, которые вы хотите достигнуть на мастер-клас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. Придумайте проблему, вопрос, парадокс, вводящие в вашу тему занятия и представляющие интерес для «воспитанник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4. Подберите технические средства (минимально) и различные формы работы к данным целям и задач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5. Придумайте неожиданные предметы или открытия в обычном удивительного, которые раскрывают ведущую педагогическую иде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6. Включите фантазию, придумайте интересный замысел мастер-кла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7. Составьте подробный план зан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8. Тщательно проверьте технику и работу микрофонов перед началом мастер-кла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9. Расставьте стулья, столы и доску так, как вам ну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0. Когда все готово — дайте команду организаторам, что можно начин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684360" y="476280"/>
            <a:ext cx="777528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Рекомендации по проведению мастер-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. Старайтесь говорить не громко и не тихо, но внятно и с разными интонациями (не монотонно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2. Сами говорите только в микрофон и следите, чтобы ученики тоже давали ответы в микрофон, чтобы слышали все в зале. Контролируйте силу своего голоса и голоса учеников по звуку в колонк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3. Нельзя весь мастер-класс читать лекц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4. Не превращайте мастер-класс только в игру. Одна форма работы на мастер-классе неприемле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5. Проявляйте специфику предмета (иногда к концу урока зрителям и жюри не понятен предмет преподаван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6. Это урок не для профессионалов данного направления. Задача — прояснить сложное, затронуть общечеловеческие ценности, проблемы, которые волнуют все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7. Используйте новые информационные технологии только если они органично входят в вашу идею ур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8. Здоровьесбережение должно стать не надуманным, а органичным элементом ур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9. Не добивайтесь долго того ответа, который вам нужен. А если получили его раньше — не продолжайте двигаться в эту сторон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0. Старайтесь показывать не только себя, но и уче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1. Не бойтесь задавать трудные вопрос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2. Проведите в конце краткий анализ занятия с «ученикам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838080" y="990720"/>
            <a:ext cx="735804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ткрытый микрофо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ая компетен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собственной позиции по пробл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ина и оригинальность сужд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культура и эруди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684360" y="476280"/>
            <a:ext cx="784836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- это я. Такого, как я, никогда не было и не будет. Есть люди, чем-то похожие на меня, но в точности такого, как я, нет. Мне принадлежит мое тело и все, что оно делает. Мне принадлежит мой голос: тихий или громкий, нежный или резкий. Мне принадлежат мои глаза и все образы, которые они могут увидеть. Это все принадлежит мне, потому что я один выбрал это, это истинно. Это достаточное основание для того, чтобы принять и полюбить себя, заинтересоваться собой. Теперь, когда я принял себя, я могу набраться терпения и мужества, чтобы узнать себя лучше и глубже. Конечно, во мне есть нечто, что вызывает мое недоумение. Но теперь, когда я не боюсь посмотреть в себя, я могу сделать так, чтобы все во мне способствовало достижению моих целей, чтобы полезного и доброго во мне становилось больше и больше. Я могу видеть, слышать, думать, действовать. Значит, во мне есть все, чтобы жить. Чтобы вносить гармонию в мир людей и вещей вокруг меня. Я – это я, и Я – это здорово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785880" y="428760"/>
            <a:ext cx="78580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«Презентация опыта работы, методический семина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Unicode MS"/>
                <a:ea typeface="Times New Roman"/>
              </a:rPr>
              <a:t>Регламент – 15 ми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Умение анализировать, обобщать, выявлять и применять инновационные идеи в своей профессиона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Практическая значимость и новизна представленного опы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Общая  и профессиональная эруди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Культура публичного выступ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Умение взаимодействовать с аудитор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3"/>
          <p:cNvSpPr/>
          <p:nvPr/>
        </p:nvSpPr>
        <p:spPr>
          <a:xfrm>
            <a:off x="533520" y="533520"/>
            <a:ext cx="821520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ое мероприятие с детьм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-30 минут (от возрастной группы воспитанник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ая компетен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заинтересовать группу детей содержанием и видом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гинальность организации и выбора содержания открытого просмо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удерживать интерес детей в течение меро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сотрудничества детей 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кватность стиля взаимодействия с деть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активности и инициативности де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 об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71600" y="320400"/>
            <a:ext cx="8215200" cy="4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33"/>
                </a:solidFill>
                <a:latin typeface="Garamond"/>
              </a:rPr>
              <a:t>Различия процесса обучения в детском саду, организованного в виде учебной деятельности и через организацию детских видов деятельности</a:t>
            </a:r>
            <a:endParaRPr b="0" lang="en-US" sz="1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52280" y="990720"/>
          <a:ext cx="8763120" cy="5187960"/>
        </p:xfrm>
        <a:graphic>
          <a:graphicData uri="http://schemas.openxmlformats.org/drawingml/2006/table">
            <a:tbl>
              <a:tblPr/>
              <a:tblGrid>
                <a:gridCol w="4381560"/>
                <a:gridCol w="438156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виде учебной деятельности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з организацию детских видов деятельности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ебенок - объект формирующих педагогических воз­действий взрослого человека. Взрослый - главный. Он руководит и управляет ребенком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ебенок и взрослый - оба субъекты взаимодействия. Они равны по значимости. Каждый в равной степени це­нен. Хотя взрослый, конечно, и старше, и опытне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Активность взрослого выше, чем активность ребенка, в том числе и речевая (взрослый "много" говорит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Активность ребенка по крайней мере не меньше, чем активность взрослого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сновная деятельность - учебная. Главный результат учебной деятельности - решение какой-либо учебной задачи, поставленной перед детьми взрослым. Цель - знания, умения и навыки детей. Актив­ность детей нужна для достижения этой цел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сновная деятельность - это так называемые детские виды деятельности.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Ребенок должен быть активен. Но при этом важно, что­бы его активность не была беспорядочной, хаотичной, а оформлялась во вполне определенные, присущие до­школьнику виды деятельности... общение, игра, пред­метная деятельность, конструирование, изобразитель­ная деятельность, элементарная трудовая деятельность"¹.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Сам процесс их выполнения и итоги прежде всего ра­дуют самих детей и окружающих взрослых, не имея при этом каких-либо жестких норм и правил"².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 - подлинная активность (деятельность) детей, а освоение знаний, умений и навыков - побочный эффект этой активност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457200" y="380880"/>
          <a:ext cx="8229600" cy="5273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Основная модель организации образовательного процесса - учеб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Основная модель организации образовательного процесса - совместная деятельность взрослого и ребен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Основная форма работы с детьми - занят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Основные формы работы с детьми - рассматривание, наблюдение, беседы, разговоры, экспериментирование и исследования, коллекционирование, чтение, реализация проектов, мастерская и т. д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Применяются в основном так называемые пря­мые методы обучения (при частичном использовании опосредованных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Применяются в основном так называемые опосредованные методы обучения (при частичном использовании прямых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Мотивы обучения на занятии, как правило, не связаны с интересом детей к самой учебной деятельности. "Удерживает" детей на занятии авторитет взрослого. Именно поэтому педагогам зачастую приходится "украшать" занятие наглядностью, игровыми приемами, персонажами, чтобы облечь учебный процесс в привлекательную для дошкольников форму. Но ведь "подлинная цель взрослого - вовсе не поиграть, а использовать игрушку для мотивации освоения непривлекательных для детей предметных знаний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Мотивы обучения, осуществляемого как организация детских видов деятельности, связаны в первую очередь с интересом детей к этим видам деятель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457200" y="380880"/>
          <a:ext cx="8229600" cy="5211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6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Все дети обязательно должны присутствовать на занятии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Допускаются так называемые свободные "вход" и "вы­ход" детей, что вовсе не предполагает провозглашения анархии в детском саду. Уважая ребенка, его состояние, настроение, предпочтения и интересы, взрослый обязан предоставить ему возможность выбора - участвовать или не участвовать вместе с другими детьми в совместном деле, но при этом вправе потребовать такого же уважения и к участникам этого совместного дел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Образовательный процесс в значительной степени регламентирован. Главное для взрослого - двигаться по заранее намеченному плану, программе. Педагог часто опирается на подготовленный конспект занятия, в ко­тором расписаны реплики и вопросы взрослого, ответы дете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Образовательный процесс предполагает внесение изменений (коррективов) в планы, программы с учетом потребностей и интересов детей. Конспекты могут ис­пользоваться частично, для заимствования фактического материала (например, интересных сведений о композиторах, писателях, художниках и их произведениях), отдельных методов и приемов и др., но не как "готовый образец" образовательного процесс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2"/>
          <p:cNvSpPr/>
          <p:nvPr/>
        </p:nvSpPr>
        <p:spPr>
          <a:xfrm>
            <a:off x="838080" y="500040"/>
            <a:ext cx="762012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ешение психолого-педагогических ситуаци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сформулировать пробл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возрастных и индивидуальных особенностей участников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аргументировать предлагаемые ре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при необходимости адекватно изменять стратегию по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культура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"/>
          <p:cNvSpPr/>
          <p:nvPr/>
        </p:nvSpPr>
        <p:spPr>
          <a:xfrm>
            <a:off x="571680" y="500040"/>
            <a:ext cx="742932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стер-класс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гламент 20 ми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ина и оригинальность содерж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ая знач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заимодействовать с аудитор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2206800" y="3139920"/>
            <a:ext cx="6602400" cy="3224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066320"/>
            <a:ext cx="8229600" cy="11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100440" indent="-802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ТАКОЕ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100440" indent="-802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ТЕР-КЛАСС 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" descr="ЗАРУБА Артур Викторович"/>
          <p:cNvPicPr/>
          <p:nvPr/>
        </p:nvPicPr>
        <p:blipFill>
          <a:blip r:embed="rId2"/>
          <a:stretch/>
        </p:blipFill>
        <p:spPr>
          <a:xfrm>
            <a:off x="457200" y="2819520"/>
            <a:ext cx="228600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илонова Светлана Ринатовна</cp:lastModifiedBy>
  <dcterms:modified xsi:type="dcterms:W3CDTF">2012-12-27T06:08:1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